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862-5D24-456D-B533-66D83E76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BFAB-41FD-476E-9FD5-10148212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3C4D-090D-4C9E-8353-62A12E36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4B3-393C-4B0F-8888-BA39427F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768-26F3-4963-9E34-2C2A9D2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BD9-5CBC-42AA-9B9D-2E22A07B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D9C-19AD-46CB-B6E2-E7CB87C7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830-71E9-40A1-8839-84BBACD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8E5-E0B5-4A67-B41D-830B73D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517-9273-45F0-BC86-7822DD4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654-558D-42D6-90F6-728AD0D9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085-84A5-4392-848A-5FBA416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8D2-2AB0-40DA-82F3-4B68790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CB6-2560-4DAA-A76C-CBA1136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164-EE6C-4668-B6BE-BFCAE3E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34C-84D4-4A3A-B321-A6FEBC06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. Él es guapo.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. Yo estoy cansada. Mi hermano puede ir conte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s.  ¿Tu quieres venir a mi casa? Yo estoy aburrid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Zaara es mi hermana. Ella es bonita. Ella quiere venir. Ella tiene juguetes.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eguro tu quieres ven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sotros venir. Gracias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imah Mun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imah Mun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imah Muni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152280" y="3581280"/>
            <a:ext cx="1600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llamo Naimah. Yo tengo catorce años. Yo vivo en New York. Mis dos hermanos esta fuerte. Mis dos hermanas esta buena.Yo soy joven y divert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Donde esta tú casa?                                                        Naim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 nada. ¿cuánto ustedes vienen? Mi primas vienen, they have icecream                     Naimah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eni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. Gracias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4197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45Z</dcterms:modified>
  <cp:revision>111</cp:revision>
  <dc:subject/>
  <dc:title>Profile</dc:title>
</cp:coreProperties>
</file>